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gif" ContentType="image/gif"/>
  <Override PartName="/ppt/media/image7.jpeg" ContentType="image/jpeg"/>
  <Override PartName="/ppt/media/image3.png" ContentType="image/png"/>
  <Override PartName="/ppt/media/image4.jpeg" ContentType="image/jpeg"/>
  <Override PartName="/ppt/media/image6.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CEE59E-C7A1-4D9F-A037-F7F0A9D543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0B4CB4-7364-4804-ABBF-A70B0A24EE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561472-28D4-4510-AC2D-5CEA75F4C1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12C5EC-B5B8-441F-8BE1-91CB5FCF22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7497DC-B79F-46B3-8043-82F7C3BA25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F18A4-097B-4C09-9205-7E193C7F4E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A36737-B5DB-48CB-9542-A2826E3BB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E45AB0-4A0D-47FB-A04B-BB337C85BA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895521-7282-4A4E-9D47-B0F40B88A4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44394-0134-437B-BA50-5F49EAC654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597A0-DE35-4AFC-B2B2-D90C94655E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CCF38-D383-445E-8966-53EF35B4E9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E7C02-E25D-462B-890A-4612C48F3A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alchemylab.com/flameldwgs.htm"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chemy</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de Sell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chemist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the time that alchemy was a major part of science there were three main groups that practiced the art. Those three groups wer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hines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gyptian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uropea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inese Alchemists:</a:t>
            </a:r>
            <a:br>
              <a:rPr sz="4000"/>
            </a:br>
            <a:r>
              <a:rPr b="0" lang="en-US" sz="4000" spc="-1" strike="noStrike">
                <a:solidFill>
                  <a:srgbClr val="000000"/>
                </a:solidFill>
                <a:latin typeface="Arial"/>
              </a:rPr>
              <a:t>Overview</a:t>
            </a:r>
            <a:endParaRPr b="0" lang="en-US" sz="40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nese alchemists were the second group of alchemists to bring forth the science of alchemy.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nese alchemists were hired by the lords of their lan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held mini ceremonies before they started their alchemy. The ceremonies were dedicated to a goddess named Stov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ve was the goddess of cooking and brewing medicines so she was regarded as a kind of watchful eye over the alchemis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nese officials decided to band the creation of gold through alchemical means because the people who hired the alchemists for that purpose were abusing the ability to make gol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inese Alchemists:</a:t>
            </a:r>
            <a:br>
              <a:rPr sz="4000"/>
            </a:br>
            <a:r>
              <a:rPr b="0" lang="en-US" sz="4000" spc="-1" strike="noStrike">
                <a:solidFill>
                  <a:srgbClr val="000000"/>
                </a:solidFill>
                <a:latin typeface="Arial"/>
              </a:rPr>
              <a:t>Goals</a:t>
            </a: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nese alchemists had two main goal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reation of the elixir of life</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rmation of alchemical gold</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hinese alchemists tried to reach their goals but many were failed attempts. Gold was made in small quantities but the elixir of life was found as unrealistic and caused the downfall of the practice of alchemy in that area.</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inese Alchemists:</a:t>
            </a:r>
            <a:br>
              <a:rPr sz="4000"/>
            </a:br>
            <a:r>
              <a:rPr b="0" lang="en-US" sz="4000" spc="-1" strike="noStrike">
                <a:solidFill>
                  <a:srgbClr val="000000"/>
                </a:solidFill>
                <a:latin typeface="Arial"/>
              </a:rPr>
              <a:t>What we gained from them</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though Chinese alchemy wasn’t as successful as they would have wanted it to be, it still gave us something that we still use today. What we gained was an oxymoron to what they were trying to get; they wanted to prolong life but what they made had the ability to kill, gunpow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npowder was made after a number of failed attempts in creating the elixir of life by a man by the name of  </a:t>
            </a:r>
            <a:r>
              <a:rPr b="0" lang="en-US" sz="2400" spc="-1" strike="noStrike">
                <a:solidFill>
                  <a:srgbClr val="000000"/>
                </a:solidFill>
                <a:latin typeface="Arial"/>
                <a:ea typeface="ＭＳ Ｐゴシック"/>
              </a:rPr>
              <a:t>Tseng Kung-Liang . He later published the formula for gunpowder and the powder spread through the known world like wildfire. </a:t>
            </a:r>
            <a:endParaRPr b="0" lang="en-US" sz="2400" spc="-1" strike="noStrike">
              <a:solidFill>
                <a:srgbClr val="000000"/>
              </a:solidFill>
              <a:latin typeface="Arial"/>
            </a:endParaRPr>
          </a:p>
        </p:txBody>
      </p:sp>
      <p:pic>
        <p:nvPicPr>
          <p:cNvPr id="74" name="" descr=""/>
          <p:cNvPicPr/>
          <p:nvPr/>
        </p:nvPicPr>
        <p:blipFill>
          <a:blip r:embed="rId1"/>
          <a:stretch/>
        </p:blipFill>
        <p:spPr>
          <a:xfrm>
            <a:off x="4114800" y="5000760"/>
            <a:ext cx="2381400" cy="1857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gyptian Alchemists:</a:t>
            </a:r>
            <a:br>
              <a:rPr sz="4000"/>
            </a:br>
            <a:r>
              <a:rPr b="0" lang="en-US" sz="4000" spc="-1" strike="noStrike">
                <a:solidFill>
                  <a:srgbClr val="000000"/>
                </a:solidFill>
                <a:latin typeface="Arial"/>
              </a:rPr>
              <a:t>Overview</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yptian Alchemists were the very first alchemists to start the a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gyptian alchemist Hermes Trismegistus was the first alchemists in recorded histor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yptian alchemists were hired by someone of higher power then the alchemist himself to create gol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rmes Trismegistus and Egyptian Astronomy</a:t>
            </a:r>
            <a:endParaRPr b="0" lang="en-US" sz="4000" spc="-1" strike="noStrike">
              <a:solidFill>
                <a:srgbClr val="000000"/>
              </a:solidFill>
              <a:latin typeface="Arial"/>
            </a:endParaRPr>
          </a:p>
        </p:txBody>
      </p:sp>
      <p:pic>
        <p:nvPicPr>
          <p:cNvPr id="78" name="" descr=""/>
          <p:cNvPicPr/>
          <p:nvPr/>
        </p:nvPicPr>
        <p:blipFill>
          <a:blip r:embed="rId1"/>
          <a:stretch/>
        </p:blipFill>
        <p:spPr>
          <a:xfrm>
            <a:off x="533520" y="1676520"/>
            <a:ext cx="2962080" cy="3809880"/>
          </a:xfrm>
          <a:prstGeom prst="rect">
            <a:avLst/>
          </a:prstGeom>
          <a:ln w="0">
            <a:noFill/>
          </a:ln>
        </p:spPr>
      </p:pic>
      <p:pic>
        <p:nvPicPr>
          <p:cNvPr id="79" name="" descr=""/>
          <p:cNvPicPr/>
          <p:nvPr/>
        </p:nvPicPr>
        <p:blipFill>
          <a:blip r:embed="rId2"/>
          <a:stretch/>
        </p:blipFill>
        <p:spPr>
          <a:xfrm>
            <a:off x="5867280" y="1143000"/>
            <a:ext cx="2641680" cy="5410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gyptian Alchemists:</a:t>
            </a:r>
            <a:br>
              <a:rPr sz="4000"/>
            </a:br>
            <a:r>
              <a:rPr b="0" lang="en-US" sz="4000" spc="-1" strike="noStrike">
                <a:solidFill>
                  <a:srgbClr val="000000"/>
                </a:solidFill>
                <a:latin typeface="Arial"/>
              </a:rPr>
              <a:t>Goals</a:t>
            </a:r>
            <a:endParaRPr b="0" lang="en-US" sz="40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yptian alchemy was a little more complicated then the others because of the way that the Egyptians thought of alchemy.</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lchemists believed that alchemy was </a:t>
            </a:r>
            <a:r>
              <a:rPr b="0" lang="en-US" sz="3200" spc="-1" strike="noStrike">
                <a:solidFill>
                  <a:srgbClr val="000000"/>
                </a:solidFill>
                <a:latin typeface="Arial"/>
                <a:ea typeface="ＭＳ Ｐゴシック"/>
              </a:rPr>
              <a:t>a science of eternal life. This was also partnered with their belief that everything had a soul and every soul had a thing attached to i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gyptian Alchemists:</a:t>
            </a:r>
            <a:br>
              <a:rPr sz="4000"/>
            </a:br>
            <a:r>
              <a:rPr b="0" lang="en-US" sz="4000" spc="-1" strike="noStrike">
                <a:solidFill>
                  <a:srgbClr val="000000"/>
                </a:solidFill>
                <a:latin typeface="Arial"/>
              </a:rPr>
              <a:t>What we gained from them</a:t>
            </a:r>
            <a:endParaRPr b="0" lang="en-US" sz="40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yptian alchemists played one of the most important roles in the history of alchemy because they introduced the science to the worl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science has lead to the present day chemistry, so, the Egyptian alchemists can be regarded as the creators of a primitive sort of chemist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uropean Alchemists:</a:t>
            </a:r>
            <a:br>
              <a:rPr sz="4000"/>
            </a:br>
            <a:r>
              <a:rPr b="0" lang="en-US" sz="4000" spc="-1" strike="noStrike">
                <a:solidFill>
                  <a:srgbClr val="000000"/>
                </a:solidFill>
                <a:latin typeface="Arial"/>
              </a:rPr>
              <a:t>Overview</a:t>
            </a:r>
            <a:endParaRPr b="0" lang="en-US" sz="40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uropeans learned the art of alchemy from the Spaniards who gained this information from monks who taught the Spanish explorers about the art and it’s purposes.</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uropean Alchemists were hired by the kings and nobles.</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uropean alchemists were the original  wizards because of their odd experiments.</a:t>
            </a: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uropean Alchemists:</a:t>
            </a:r>
            <a:br>
              <a:rPr sz="4000"/>
            </a:br>
            <a:r>
              <a:rPr b="0" lang="en-US" sz="4000" spc="-1" strike="noStrike">
                <a:solidFill>
                  <a:srgbClr val="000000"/>
                </a:solidFill>
                <a:latin typeface="Arial"/>
              </a:rPr>
              <a:t>Goals</a:t>
            </a:r>
            <a:endParaRPr b="0" lang="en-US" sz="40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uropean alchemists had two main goal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form gold through alchemical mean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create the Philosopher’s stone</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kings and nobles would hire alchemists to make gold while others would work on the creation of the Philosopher’s stone (sometimes referred to as the elixir of life depending on what culture you are referring 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lchemical Theory</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chemy: the expansion of consciousness and development of insight through imag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The alchemical theory can trace its origins back to ancient Gree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The alchemical theory differs depending on the goals of the area of practice.</a:t>
            </a:r>
            <a:endParaRPr b="0" lang="en-US" sz="3200" spc="-1" strike="noStrike">
              <a:solidFill>
                <a:srgbClr val="000000"/>
              </a:solidFill>
              <a:latin typeface="Arial"/>
            </a:endParaRPr>
          </a:p>
        </p:txBody>
      </p:sp>
      <p:pic>
        <p:nvPicPr>
          <p:cNvPr id="45" name="" descr=""/>
          <p:cNvPicPr/>
          <p:nvPr/>
        </p:nvPicPr>
        <p:blipFill>
          <a:blip r:embed="rId1"/>
          <a:stretch/>
        </p:blipFill>
        <p:spPr>
          <a:xfrm>
            <a:off x="7391520" y="5257800"/>
            <a:ext cx="961920" cy="1352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uropean Alchemists:</a:t>
            </a:r>
            <a:br>
              <a:rPr sz="4000"/>
            </a:br>
            <a:r>
              <a:rPr b="0" lang="en-US" sz="4000" spc="-1" strike="noStrike">
                <a:solidFill>
                  <a:srgbClr val="000000"/>
                </a:solidFill>
                <a:latin typeface="Arial"/>
              </a:rPr>
              <a:t>What we gained from them</a:t>
            </a: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uropean Alchemists triggered the idea of chemistry and astronomy in the minds of the alchemists and allowed for those sciences to be put into pla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icolas Flamel: The Immortal French Alchemist (1330-1418, assumed dead)</a:t>
            </a:r>
            <a:endParaRPr b="0" lang="en-US" sz="4000" spc="-1" strike="noStrike">
              <a:solidFill>
                <a:srgbClr val="000000"/>
              </a:solidFill>
              <a:latin typeface="Arial"/>
            </a:endParaRPr>
          </a:p>
        </p:txBody>
      </p:sp>
      <p:sp>
        <p:nvSpPr>
          <p:cNvPr id="91" name="PlaceHolder 2"/>
          <p:cNvSpPr>
            <a:spLocks noGrp="1"/>
          </p:cNvSpPr>
          <p:nvPr>
            <p:ph/>
          </p:nvPr>
        </p:nvSpPr>
        <p:spPr>
          <a:xfrm>
            <a:off x="457200" y="167652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of the most known alchemists is the famed Nicolas Flam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olas Flamel gained his fame from being known as the first and only alchemist to create the Philosopher’s ston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olas Flamel disappeared after he created the Philosopher’s stone and the only man that knew where he was died without telling anyone where he went or if he was still alive or not.</a:t>
            </a:r>
            <a:endParaRPr b="0" lang="en-US" sz="2000" spc="-1" strike="noStrike">
              <a:solidFill>
                <a:srgbClr val="000000"/>
              </a:solidFill>
              <a:latin typeface="Arial"/>
            </a:endParaRPr>
          </a:p>
        </p:txBody>
      </p:sp>
      <p:pic>
        <p:nvPicPr>
          <p:cNvPr id="92" name="" descr=""/>
          <p:cNvPicPr/>
          <p:nvPr/>
        </p:nvPicPr>
        <p:blipFill>
          <a:blip r:embed="rId1"/>
          <a:stretch/>
        </p:blipFill>
        <p:spPr>
          <a:xfrm>
            <a:off x="5486400" y="1752480"/>
            <a:ext cx="2963880" cy="4419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icolas Flamel’s Notes</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alchemylab.com/flameldwgs.htm</a:t>
            </a:r>
            <a:r>
              <a:rPr b="0" lang="en-US" sz="3200" spc="-1" strike="noStrike" u="sng">
                <a:solidFill>
                  <a:srgbClr val="000000"/>
                </a:solidFill>
                <a:uFillTx/>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site shows some of Flamel’s notes he took while he was making the Philosopher’s st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lchemical Process</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chemists used the alchemical process to reach their goals in alchem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cess differs from place to place depending on the alchemists’ goals</a:t>
            </a:r>
            <a:endParaRPr b="0" lang="en-US" sz="2800" spc="-1" strike="noStrike">
              <a:solidFill>
                <a:srgbClr val="000000"/>
              </a:solidFill>
              <a:latin typeface="Arial"/>
            </a:endParaRPr>
          </a:p>
        </p:txBody>
      </p:sp>
      <p:pic>
        <p:nvPicPr>
          <p:cNvPr id="48" name="" descr=""/>
          <p:cNvPicPr/>
          <p:nvPr/>
        </p:nvPicPr>
        <p:blipFill>
          <a:blip r:embed="rId1"/>
          <a:stretch/>
        </p:blipFill>
        <p:spPr>
          <a:xfrm>
            <a:off x="5052960" y="1824120"/>
            <a:ext cx="3229200" cy="4076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sconceptions about the alchemical process</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chemy may appear to be a magical art rather then a scienc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chemy dealt with real animals, not those of mythology or magical origin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used real chemicals and process in their practi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ation to Full Metal Alchemist</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ue Alchemy:</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 labs to perform alchemy</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human sacrifices needed</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ilosopher’s Stone can create gold and give the user immortality</a:t>
            </a:r>
            <a:endParaRPr b="0" lang="en-US" sz="2800" spc="-1" strike="noStrike">
              <a:solidFill>
                <a:srgbClr val="000000"/>
              </a:solidFill>
              <a:latin typeface="Arial"/>
            </a:endParaRPr>
          </a:p>
        </p:txBody>
      </p:sp>
      <p:sp>
        <p:nvSpPr>
          <p:cNvPr id="53"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ll Metal Alchemist:</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do alchemy anywher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man sacrifices needed for certain thing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ilosopher’s Stone only enhanced alchemical abil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hilosopher’s stone: Importance of the Stone</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hilosopher’s Stone is the most important thing in alchemy.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chemists would try to create the stone by any means necessary.</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one was sought after by many generations of alchemists.</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t is a stone that is not actually a stone’ ~Unknown</a:t>
            </a:r>
            <a:endParaRPr b="0" lang="en-US" sz="2400" spc="-1" strike="noStrike">
              <a:solidFill>
                <a:srgbClr val="000000"/>
              </a:solidFill>
              <a:latin typeface="Arial"/>
            </a:endParaRPr>
          </a:p>
        </p:txBody>
      </p:sp>
      <p:pic>
        <p:nvPicPr>
          <p:cNvPr id="56" name="" descr=""/>
          <p:cNvPicPr/>
          <p:nvPr/>
        </p:nvPicPr>
        <p:blipFill>
          <a:blip r:embed="rId1"/>
          <a:stretch/>
        </p:blipFill>
        <p:spPr>
          <a:xfrm>
            <a:off x="4648320" y="234792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hilosopher’s Stone: powers and appearance</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owers of the philosopher’s stone are as follows:</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mortality</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mutation of base metals into gold and silver</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ifying the human spirit</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one is known as a purified substance that is only pure after many different stages of ‘evolution’. </a:t>
            </a:r>
            <a:endParaRPr b="0" lang="en-US" sz="2400" spc="-1" strike="noStrike">
              <a:solidFill>
                <a:srgbClr val="000000"/>
              </a:solidFill>
              <a:latin typeface="Arial"/>
            </a:endParaRPr>
          </a:p>
        </p:txBody>
      </p:sp>
      <p:sp>
        <p:nvSpPr>
          <p:cNvPr id="59"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ppearance of the Philosopher’s stone is highly controversial.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of the more common colors are crimson and clea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merald Tablet</a:t>
            </a:r>
            <a:endParaRPr b="0" lang="en-US" sz="4400" spc="-1" strike="noStrike">
              <a:solidFill>
                <a:srgbClr val="000000"/>
              </a:solidFill>
              <a:latin typeface="Arial"/>
            </a:endParaRPr>
          </a:p>
        </p:txBody>
      </p:sp>
      <p:sp>
        <p:nvSpPr>
          <p:cNvPr id="61"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merald Tablet is a special document written by Hermes Trismegistos, the father of alchemy and famous Egyptian alchemis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ablet contained a secret formula in the language that the alchemists understoo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ablet was so important that all alchemists hung a copy of it in the place where they practiced their alchemy.  </a:t>
            </a:r>
            <a:endParaRPr b="0" lang="en-US" sz="2800" spc="-1" strike="noStrike">
              <a:solidFill>
                <a:srgbClr val="000000"/>
              </a:solidFill>
              <a:latin typeface="Arial"/>
            </a:endParaRPr>
          </a:p>
        </p:txBody>
      </p:sp>
      <p:pic>
        <p:nvPicPr>
          <p:cNvPr id="62" name="" descr=""/>
          <p:cNvPicPr/>
          <p:nvPr/>
        </p:nvPicPr>
        <p:blipFill>
          <a:blip r:embed="rId1"/>
          <a:stretch/>
        </p:blipFill>
        <p:spPr>
          <a:xfrm>
            <a:off x="6248520" y="4510080"/>
            <a:ext cx="2895480" cy="2347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merald Tablet Cont.</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ablet contains a 7 step process in it to reach the goal of the table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one is for sure about what the true formula is nor what the tablet’s formula achieves but all we know is that it was essential for the alchemists of that time. </a:t>
            </a:r>
            <a:endParaRPr b="0" lang="en-US" sz="2400" spc="-1" strike="noStrike">
              <a:solidFill>
                <a:srgbClr val="000000"/>
              </a:solidFill>
              <a:latin typeface="Arial"/>
            </a:endParaRPr>
          </a:p>
        </p:txBody>
      </p:sp>
      <p:pic>
        <p:nvPicPr>
          <p:cNvPr id="65" name="" descr=""/>
          <p:cNvPicPr/>
          <p:nvPr/>
        </p:nvPicPr>
        <p:blipFill>
          <a:blip r:embed="rId1"/>
          <a:stretch/>
        </p:blipFill>
        <p:spPr>
          <a:xfrm>
            <a:off x="5105520" y="914400"/>
            <a:ext cx="3733560" cy="5943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7T15:15:19Z</dcterms:created>
  <dc:creator>cec68</dc:creator>
  <dc:description/>
  <dc:language>en-US</dc:language>
  <cp:lastModifiedBy>cec68</cp:lastModifiedBy>
  <dcterms:modified xsi:type="dcterms:W3CDTF">2009-08-26T17:42:43Z</dcterms:modified>
  <cp:revision>19</cp:revision>
  <dc:subject/>
  <dc:title>Alchemy</dc:title>
</cp:coreProperties>
</file>